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376-FAC0-4CB2-B46B-6377BD07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E0F1-8A29-4AC2-BAD9-84295B96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59C-771D-4D6C-B415-11AFE9D4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52F-D24D-4545-9875-83118634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171-BECB-4963-A09D-38969CF6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E64-3469-4820-A87A-6EDDD2FA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54B-AAA2-4EDE-A296-676182AA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43D9-C404-45D8-B06D-25C33438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112-7001-4E2F-9AA5-F18112A6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D46-A1B5-4743-8904-570763F7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C7E-BF8C-4C2F-9E80-BB34DCF1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927-B0B6-4559-BBB1-9EF0111F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57DE-EB50-48D1-B12D-2F19BA921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5" descr=""/>
          <p:cNvPicPr/>
          <p:nvPr/>
        </p:nvPicPr>
        <p:blipFill>
          <a:blip r:embed="rId1"/>
          <a:stretch/>
        </p:blipFill>
        <p:spPr>
          <a:xfrm>
            <a:off x="2066760" y="0"/>
            <a:ext cx="500724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6" descr=""/>
          <p:cNvPicPr/>
          <p:nvPr/>
        </p:nvPicPr>
        <p:blipFill>
          <a:blip r:embed="rId1"/>
          <a:stretch/>
        </p:blipFill>
        <p:spPr>
          <a:xfrm>
            <a:off x="0" y="19080"/>
            <a:ext cx="9150480" cy="68230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5T13:39:40Z</dcterms:created>
  <dc:creator>afroz</dc:creator>
  <dc:description/>
  <dc:language>en-US</dc:language>
  <cp:lastModifiedBy>afroz</cp:lastModifiedBy>
  <dcterms:modified xsi:type="dcterms:W3CDTF">1998-06-15T13:40:14Z</dcterms:modified>
  <cp:revision>1</cp:revision>
  <dc:subject/>
  <dc:title>PowerPoint Presentation</dc:title>
</cp:coreProperties>
</file>