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D7F-31EB-410C-B60B-15E714C7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008-72C8-43C6-9D7F-98A31714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C9A-67D8-4F6B-A5BC-757C3D8A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556-C612-419C-A8EA-65E502CE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4D1-1F03-43BA-AA67-819F30C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4FC-CBD9-49BB-8084-2A878D50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64C-FEF4-46C0-9B98-4CFE4289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D04-6E08-4CA8-A3BE-61AE7713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58E-BF12-4E3F-BCDC-A0D81713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842-93E9-41FA-AC3A-A5023F2F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8D6-7AE9-461F-959D-697E4999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854-6577-45ED-B2FE-0CCFCC9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69D8-D6F9-4C05-AA1E-8A040A104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3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0760" cy="70614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4" descr=""/>
          <p:cNvPicPr/>
          <p:nvPr/>
        </p:nvPicPr>
        <p:blipFill>
          <a:blip r:embed="rId1"/>
          <a:stretch/>
        </p:blipFill>
        <p:spPr>
          <a:xfrm>
            <a:off x="0" y="-155520"/>
            <a:ext cx="9144000" cy="71658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5" descr=""/>
          <p:cNvPicPr/>
          <p:nvPr/>
        </p:nvPicPr>
        <p:blipFill>
          <a:blip r:embed="rId1"/>
          <a:stretch/>
        </p:blipFill>
        <p:spPr>
          <a:xfrm>
            <a:off x="0" y="-3240"/>
            <a:ext cx="9140760" cy="68644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6" descr=""/>
          <p:cNvPicPr/>
          <p:nvPr/>
        </p:nvPicPr>
        <p:blipFill>
          <a:blip r:embed="rId1"/>
          <a:stretch/>
        </p:blipFill>
        <p:spPr>
          <a:xfrm>
            <a:off x="2046240" y="0"/>
            <a:ext cx="4359240" cy="67816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5" descr=""/>
          <p:cNvPicPr/>
          <p:nvPr/>
        </p:nvPicPr>
        <p:blipFill>
          <a:blip r:embed="rId1"/>
          <a:stretch/>
        </p:blipFill>
        <p:spPr>
          <a:xfrm>
            <a:off x="2066760" y="0"/>
            <a:ext cx="50072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6" descr=""/>
          <p:cNvPicPr/>
          <p:nvPr/>
        </p:nvPicPr>
        <p:blipFill>
          <a:blip r:embed="rId1"/>
          <a:stretch/>
        </p:blipFill>
        <p:spPr>
          <a:xfrm>
            <a:off x="0" y="19080"/>
            <a:ext cx="9150480" cy="68230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5T13:34:56Z</dcterms:created>
  <dc:creator>afroz</dc:creator>
  <dc:description/>
  <dc:language>en-US</dc:language>
  <cp:lastModifiedBy>afroz</cp:lastModifiedBy>
  <dcterms:modified xsi:type="dcterms:W3CDTF">1998-06-15T13:41:29Z</dcterms:modified>
  <cp:revision>3</cp:revision>
  <dc:subject/>
  <dc:title>PowerPoint Presentation</dc:title>
</cp:coreProperties>
</file>